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888F-9BB0-4F3C-9D03-241E769A2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2AD5-B867-4BEF-B55C-1F79D9F7D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A512-D175-4133-A85C-8188F9FB2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B7A9-4025-424C-84C5-776A6B40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A3BF-1FE9-4A3F-8CA6-89D00205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6E29-1469-4892-941E-1E2700175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05AD-68CC-4232-A388-083A1CA2F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B3A-58A5-4646-84FC-3D51D844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61A-FEAA-4553-B1BA-DEFF03C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321-AC73-48BB-A5B5-465586D3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907-F338-4886-9E7E-BAF36507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B03-773A-4C4F-A6AD-B9603106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C0C-1A83-42D7-B4CD-4EA1C90E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F5C-E4ED-4C99-9A57-017EE860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561-B97A-4DEC-8DE6-2AA2B35D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2F6-9056-414A-BB6B-62864714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29E-5BCB-4864-B0C4-0092EE0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CA7-C739-4ED2-8213-FC6B65F7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829-7F8A-4C59-98A6-FB629C8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C4A-E5DE-4C9B-B1A4-4F2C23AE1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FRI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9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ecipitation Reaching th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/So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urface Water Stored in La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 to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as to 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/So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would happen to the simple system if you made the hole in the restriction in pipe 4 larg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533520" y="3733920"/>
            <a:ext cx="8610480" cy="3096360"/>
            <a:chOff x="533520" y="3733920"/>
            <a:chExt cx="8610480" cy="3096360"/>
          </a:xfrm>
        </p:grpSpPr>
        <p:sp>
          <p:nvSpPr>
            <p:cNvPr id="109" name="TextBox 5"/>
            <p:cNvSpPr/>
            <p:nvPr/>
          </p:nvSpPr>
          <p:spPr>
            <a:xfrm>
              <a:off x="4953240" y="3733920"/>
              <a:ext cx="419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: Water would move from Container B to Container C at a faster r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Box 5"/>
            <p:cNvSpPr/>
            <p:nvPr/>
          </p:nvSpPr>
          <p:spPr>
            <a:xfrm>
              <a:off x="533520" y="56390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means water would stay in container B for less time.  Therefore there is a decrease in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dence tim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water in container 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Picture 6" descr="Picture 2.png"/>
          <p:cNvPicPr/>
          <p:nvPr/>
        </p:nvPicPr>
        <p:blipFill>
          <a:blip r:embed="rId1"/>
          <a:stretch/>
        </p:blipFill>
        <p:spPr>
          <a:xfrm>
            <a:off x="685800" y="1523880"/>
            <a:ext cx="4191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change in the water cycle would be analogous to increasing the size of the hole in Pipe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528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Increasing the rate of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Picture 2.png"/>
          <p:cNvPicPr/>
          <p:nvPr/>
        </p:nvPicPr>
        <p:blipFill>
          <a:blip r:embed="rId1"/>
          <a:stretch/>
        </p:blipFill>
        <p:spPr>
          <a:xfrm>
            <a:off x="685800" y="1523880"/>
            <a:ext cx="41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: precipitation, surface water, ground water, clouds; Gas: atmosphere; Solid: precipitation,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Picture 2.png"/>
          <p:cNvPicPr/>
          <p:nvPr/>
        </p:nvPicPr>
        <p:blipFill>
          <a:blip r:embed="rId1"/>
          <a:stretch/>
        </p:blipFill>
        <p:spPr>
          <a:xfrm>
            <a:off x="1422360" y="2057400"/>
            <a:ext cx="6273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Picture 2.png"/>
          <p:cNvPicPr/>
          <p:nvPr/>
        </p:nvPicPr>
        <p:blipFill>
          <a:blip r:embed="rId1"/>
          <a:stretch/>
        </p:blipFill>
        <p:spPr>
          <a:xfrm>
            <a:off x="1422360" y="1981080"/>
            <a:ext cx="6273720" cy="4824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Straight Arrow Connector 5"/>
          <p:cNvCxnSpPr/>
          <p:nvPr/>
        </p:nvCxnSpPr>
        <p:spPr>
          <a:xfrm>
            <a:off x="1219320" y="274284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0" y="2286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4647960" y="6436440"/>
            <a:ext cx="4191120" cy="456120"/>
            <a:chOff x="4647960" y="6436440"/>
            <a:chExt cx="4191120" cy="456120"/>
          </a:xfrm>
        </p:grpSpPr>
        <p:cxnSp>
          <p:nvCxnSpPr>
            <p:cNvPr id="70" name="Straight Arrow Connector 6"/>
            <p:cNvCxnSpPr/>
            <p:nvPr/>
          </p:nvCxnSpPr>
          <p:spPr>
            <a:xfrm flipH="1" flipV="1">
              <a:off x="4647960" y="643644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1" name="TextBox 10"/>
            <p:cNvSpPr/>
            <p:nvPr/>
          </p:nvSpPr>
          <p:spPr>
            <a:xfrm>
              <a:off x="5486400" y="65242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762120" y="2133720"/>
            <a:ext cx="7010280" cy="3188160"/>
            <a:chOff x="762120" y="2133720"/>
            <a:chExt cx="7010280" cy="3188160"/>
          </a:xfrm>
        </p:grpSpPr>
        <p:sp>
          <p:nvSpPr>
            <p:cNvPr id="73" name="TextBox 9"/>
            <p:cNvSpPr/>
            <p:nvPr/>
          </p:nvSpPr>
          <p:spPr>
            <a:xfrm>
              <a:off x="1828800" y="4953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terial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9"/>
            <p:cNvSpPr/>
            <p:nvPr/>
          </p:nvSpPr>
          <p:spPr>
            <a:xfrm>
              <a:off x="4800600" y="2133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terial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9"/>
            <p:cNvSpPr/>
            <p:nvPr/>
          </p:nvSpPr>
          <p:spPr>
            <a:xfrm>
              <a:off x="6096240" y="4572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terial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9"/>
            <p:cNvSpPr/>
            <p:nvPr/>
          </p:nvSpPr>
          <p:spPr>
            <a:xfrm>
              <a:off x="6172200" y="38865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ces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9"/>
            <p:cNvSpPr/>
            <p:nvPr/>
          </p:nvSpPr>
          <p:spPr>
            <a:xfrm>
              <a:off x="762120" y="41151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ces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9"/>
            <p:cNvSpPr/>
            <p:nvPr/>
          </p:nvSpPr>
          <p:spPr>
            <a:xfrm>
              <a:off x="335268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ces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Picture 2.png"/>
          <p:cNvPicPr/>
          <p:nvPr/>
        </p:nvPicPr>
        <p:blipFill>
          <a:blip r:embed="rId1"/>
          <a:stretch/>
        </p:blipFill>
        <p:spPr>
          <a:xfrm>
            <a:off x="2666880" y="685800"/>
            <a:ext cx="4094280" cy="3147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at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at dif. Surface 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recipitation (Falling (gravitational energy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04920" y="91440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Picture 2.png"/>
          <p:cNvPicPr/>
          <p:nvPr/>
        </p:nvPicPr>
        <p:blipFill>
          <a:blip r:embed="rId1"/>
          <a:stretch/>
        </p:blipFill>
        <p:spPr>
          <a:xfrm>
            <a:off x="1422360" y="1957320"/>
            <a:ext cx="6273720" cy="482436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5"/>
          <p:cNvCxnSpPr/>
          <p:nvPr/>
        </p:nvCxnSpPr>
        <p:spPr>
          <a:xfrm>
            <a:off x="3885120" y="2133720"/>
            <a:ext cx="1080" cy="9151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87" name="Straight Arrow Connector 6"/>
          <p:cNvCxnSpPr/>
          <p:nvPr/>
        </p:nvCxnSpPr>
        <p:spPr>
          <a:xfrm flipH="1" flipV="1">
            <a:off x="4952160" y="6095160"/>
            <a:ext cx="839160" cy="2293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88" name="TextBox 9"/>
          <p:cNvSpPr/>
          <p:nvPr/>
        </p:nvSpPr>
        <p:spPr>
          <a:xfrm>
            <a:off x="0" y="2133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791320" y="61833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934320" y="2209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iquid Water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238880" y="4572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ecipitation Reaching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0" y="4952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Water Stored in L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312408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7391520" y="3745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19"/>
          <p:cNvCxnSpPr/>
          <p:nvPr/>
        </p:nvCxnSpPr>
        <p:spPr>
          <a:xfrm flipH="1">
            <a:off x="6247800" y="3961440"/>
            <a:ext cx="1143720" cy="766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96" name="Straight Arrow Connector 21"/>
          <p:cNvCxnSpPr/>
          <p:nvPr/>
        </p:nvCxnSpPr>
        <p:spPr>
          <a:xfrm>
            <a:off x="1447920" y="4267080"/>
            <a:ext cx="838800" cy="784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97" name="TextBox 26"/>
          <p:cNvSpPr/>
          <p:nvPr/>
        </p:nvSpPr>
        <p:spPr>
          <a:xfrm>
            <a:off x="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05:32Z</dcterms:created>
  <dc:creator>Julie Libarkin</dc:creator>
  <dc:description/>
  <dc:language>en-US</dc:language>
  <cp:lastModifiedBy>Nicole LaDue</cp:lastModifiedBy>
  <dcterms:modified xsi:type="dcterms:W3CDTF">2011-01-21T01:03:43Z</dcterms:modified>
  <cp:revision>303</cp:revision>
  <dc:subject/>
  <dc:title>PowerPoint Presentation</dc:title>
</cp:coreProperties>
</file>